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05BF-F63C-4EA6-B554-3FDAB94E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207F-E66B-40CC-9DA0-93FDAB6E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482D-AA2F-4F09-80F8-6FC2F1A8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EF58-2652-4635-A379-01F55C828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75F6-60BF-486A-B9D8-5833164B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226A-886E-42FF-83FE-198536ED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32BE-02C1-42A9-BD0D-5841C5E4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FA1E-3D79-49D8-8911-CE2D04EB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A67F-B5C7-431B-9CF7-57EC4458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CB08-5B82-4314-92AF-13C08557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9127-1EE0-4535-A145-EFA5B99D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BBD6-8037-4D4B-A8DC-026A1B71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5FB4-7DFF-4F9D-A578-BB2A99B8E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1916280"/>
            <a:ext cx="864072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S AVENTURAS  D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LIS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8360" y="3860640"/>
            <a:ext cx="3816360" cy="2794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076720" y="3860640"/>
            <a:ext cx="3735360" cy="2708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627280" y="3141720"/>
            <a:ext cx="4154400" cy="89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S SIRENA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Con su dulce melodía atraen a las personas hasta la mue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908000" y="333360"/>
            <a:ext cx="554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ESCILA Y CARIBDIS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5876640"/>
            <a:ext cx="9145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 los estrechos de los mares son peligrosos, y en ellos se esconden criaturas monstruos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457440" cy="1746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64" name=""/>
          <p:cNvSpPr txBox="1"/>
          <p:nvPr/>
        </p:nvSpPr>
        <p:spPr>
          <a:xfrm>
            <a:off x="0" y="6021360"/>
            <a:ext cx="898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ACAS SAGRADAS DEL DIOS HELIO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Ulises pasó un largo tiempo con la ninfa Calip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79280" y="4221000"/>
            <a:ext cx="3241800" cy="2422800"/>
          </a:xfrm>
          <a:prstGeom prst="rect">
            <a:avLst/>
          </a:prstGeom>
          <a:ln w="38160">
            <a:solidFill>
              <a:srgbClr val="cc0000"/>
            </a:solidFill>
            <a:miter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7" name=""/>
          <p:cNvSpPr txBox="1"/>
          <p:nvPr/>
        </p:nvSpPr>
        <p:spPr>
          <a:xfrm>
            <a:off x="2050920" y="692280"/>
            <a:ext cx="5616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LA NINFA CALIPSO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811840" y="189000"/>
            <a:ext cx="3332160" cy="66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ISLA DE 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FEAC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763640" y="404640"/>
            <a:ext cx="5761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6600"/>
                  </a:solidFill>
                  <a:miter/>
                </a:ln>
                <a:solidFill>
                  <a:srgbClr val="ffcc00"/>
                </a:solidFill>
                <a:effectLst>
                  <a:outerShdw dist="107932" dir="8100000" blurRad="0" rotWithShape="0">
                    <a:srgbClr val="3399ff">
                      <a:alpha val="50000"/>
                    </a:srgbClr>
                  </a:outerShdw>
                </a:effectLst>
                <a:latin typeface="Arial Black"/>
              </a:rPr>
              <a:t>EL REGRESO A ÍTACA</a:t>
            </a:r>
            <a:endParaRPr b="0" lang="en-US" sz="1800" spc="1" strike="noStrike">
              <a:ln w="28440">
                <a:solidFill>
                  <a:srgbClr val="ff6600"/>
                </a:solidFill>
                <a:miter/>
              </a:ln>
              <a:solidFill>
                <a:srgbClr val="ffcc00"/>
              </a:solidFill>
              <a:effectLst>
                <a:outerShdw dist="107932" dir="8100000" blurRad="0" rotWithShape="0">
                  <a:srgbClr val="33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403280" y="5516640"/>
            <a:ext cx="60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 BATALLA DE TROYA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51280" y="85680"/>
            <a:ext cx="5292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             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ISLA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       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LOS CIC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71640" y="1700280"/>
            <a:ext cx="3117600" cy="3124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076720" y="1773360"/>
            <a:ext cx="3573720" cy="2896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55280" y="5589720"/>
            <a:ext cx="7993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La flor de loto tiene unos efectos alucinógenos cuando la toma un ser hum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19280" y="620640"/>
            <a:ext cx="6121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6600cc"/>
                  </a:solidFill>
                  <a:miter/>
                </a:ln>
                <a:solidFill>
                  <a:srgbClr val="cc66ff"/>
                </a:solidFill>
                <a:latin typeface="Arial Black"/>
              </a:rPr>
              <a:t>LA FLOR DE LOTO</a:t>
            </a:r>
            <a:endParaRPr b="0" lang="en-US" sz="1800" spc="1" strike="noStrike">
              <a:ln w="38160">
                <a:solidFill>
                  <a:srgbClr val="6600cc"/>
                </a:solidFill>
                <a:miter/>
              </a:ln>
              <a:solidFill>
                <a:srgbClr val="cc66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4176720" cy="475128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03760" y="1557360"/>
            <a:ext cx="3925800" cy="475128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50" name=""/>
          <p:cNvSpPr txBox="1"/>
          <p:nvPr/>
        </p:nvSpPr>
        <p:spPr>
          <a:xfrm>
            <a:off x="324000" y="0"/>
            <a:ext cx="849600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6633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EL CICLOPE ANTROPÓFAGO POLIFEMO</a:t>
            </a:r>
            <a:endParaRPr b="0" lang="en-US" sz="1800" spc="1" strike="noStrike">
              <a:ln w="38160">
                <a:solidFill>
                  <a:srgbClr val="6633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141120"/>
            <a:ext cx="8642160" cy="648504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2" name=""/>
          <p:cNvSpPr txBox="1"/>
          <p:nvPr/>
        </p:nvSpPr>
        <p:spPr>
          <a:xfrm>
            <a:off x="250920" y="333360"/>
            <a:ext cx="3960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L DIOS EOL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79280" y="333360"/>
            <a:ext cx="87346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L ATAQUE DE LOS LESTRIGON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00000" y="6308640"/>
            <a:ext cx="7786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vierte a todo ser humano en ani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124000" y="5300640"/>
            <a:ext cx="46245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LA MAGA CIR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4360" y="404640"/>
            <a:ext cx="763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 Black"/>
              </a:rPr>
              <a:t>BAJADA A LOS INFIERNO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8:57:08Z</dcterms:created>
  <dc:creator>MIGUEL</dc:creator>
  <dc:description/>
  <dc:language>en-US</dc:language>
  <cp:lastModifiedBy>MIGUEL</cp:lastModifiedBy>
  <dcterms:modified xsi:type="dcterms:W3CDTF">2010-11-08T15:05:47Z</dcterms:modified>
  <cp:revision>15</cp:revision>
  <dc:subject/>
  <dc:title>Diapositiva 1</dc:title>
</cp:coreProperties>
</file>